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EAAA0-1985-4E99-85E8-89AA345CF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C8460-05AE-422D-AA90-93C7030DD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639A69-6109-4B39-A625-7DF249F62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55A2B3-930E-4697-BB5E-D209FD3D2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086082-FAE6-4DF4-9CBB-C45619C44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E32228-9A1F-45B7-A335-5C1C8E6FE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9FACA3-4753-4B35-87A0-E733D5737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2E92A5-22A0-428E-BC7E-6A8186599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772B89-BFE7-4974-94E9-AFA083C6A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ED4F69-1CAC-4B86-B9BF-68A675046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73929C-BD88-4646-BEE2-E3EB116D7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D3A6E4-C1E8-4F8F-B9BC-B829BB533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F6582-AEF2-42E7-9B98-F08135DDE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0F08BD-B115-4E8A-9660-D12D74929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46E99D-3AAD-4286-939E-89353919D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882CED-3530-4A54-A9DD-387942DF3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2EBB35-AE60-44D5-B814-51A4B7A29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9C938A-4025-424F-B908-592F85CB5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3B1525-4970-494D-BCF8-1CD30B04E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BD131C-97F3-464A-9DAC-347580B52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79D353-4BE5-4DB0-B6D3-4E95D2705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D868F4-2F66-47D0-B7E8-0EF2DEC20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79AC45-683C-4F43-BD75-FC2BC3861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9954A-70E4-4A38-BF7B-0AC9EFE3A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5AB29B-DD8C-439B-A677-3F8CE720E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50D427-D65D-4716-904F-464375E07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DB575E-3C86-4C5B-9E6A-EFCE98C92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754704-1536-4475-AD80-DC258BE20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A3E900-1DD8-462C-91EF-DF4215B52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DA7F6A-B39E-4498-8396-77AFB5A19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BEB7F6-7879-438E-AA13-E21EDAA87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99E8BE-FDFE-4DD7-A029-269BD8303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976830-556A-4EE5-992F-91C092483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177551-49B5-44CF-963E-B68F16D56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72DA4-5781-4B43-A0AC-63CCA9291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230A92-0BA1-4A60-AA3E-FADCF93AB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8CF759-E587-42AC-8685-F64121F82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A935D6-4E44-4808-B264-FC0FEDF80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7B5E71-7AE7-4AA1-B63A-CF4C03616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405828-EBF6-4B7F-8095-E71E09019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8D8F07-8D41-47B3-8154-153FF0385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B30AAB-BB87-4484-A1FE-499DABC6C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762466-62E8-4689-AB2A-51CD15947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6A889E-DE3F-48E1-8444-249289386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C965D0-4B64-49AB-A9B1-F5463FBF4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83A92-79EF-40A8-BDFC-F38521D4D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463370-C967-4EA5-BB01-D04B11DA9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F40BFB-A9D2-4191-8535-090E8C998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2D5471-DC33-4024-8460-B81AD430F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D98029-B1D6-493D-8DEE-2F37F7A60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9D7DD1-2345-4484-BB12-FA8D44B32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BB216F6-1781-4197-8CDB-F6B1DD054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32C8A1E-C569-45EE-9A56-80AAEC5A1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0CDBE64-6396-435E-A4D9-BB06D90D4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0EF5C07-E362-4A50-8C1A-1FB6E953E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6B1AE6F-684D-4398-9896-CF1B8C4DB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DDD6F-8A1E-4983-8BE2-7C4D45E2B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AC3AD9C-0EDE-49B1-904D-A61B7CE42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07374E4-3EBF-48FA-960F-DF77147F8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3432347-8381-4187-BB7E-83D9B82FA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04137C8-A842-466F-A241-E1E65715C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83CD921-3622-4302-89D9-9023D38EF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CDE4A98-CFEE-4C6E-BFE5-8EBAE5569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F1CE087-9D28-441B-8B34-4023D7856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94F3C33-70B4-4427-AE55-7C6014BB3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69F4EAA-3019-4E8B-A00E-7C1E99576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8BC0196-9B6B-4523-8F61-94878E734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239BB-889B-46F6-B825-3D6CA090D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D0C4A49-BE6F-4F50-86D6-543959DB0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43648C6-354A-4F3F-9A39-0C0448DD3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884BFAD-C542-49B3-B50C-5C0E81733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BD9D1B8-2136-4F11-84A5-FDFB256CD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D8ED164-7250-472D-AFDF-BFB9812C5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66A6065-D7AA-4795-94B6-954687631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74391C7-1A9B-4088-80F6-4E6103EB2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4530CEA-F038-42C9-8723-EE413BE3E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338582C-345F-42F2-A415-731A24BB7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EDD739C-2279-4DCC-AC24-FEA8293F2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FDA67-1EA6-4CA4-861B-2F8A4A0D8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7EF6A76-520E-4D91-BDAD-ABAABC6B6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B66E584-DDD7-442F-8F28-A15F68FCA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F146D42-750B-4ABB-9867-14DCF4314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82DD9EB-FFCB-474F-9487-BC681E0A2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E9DE8F7-391B-477B-9F4E-9DF492D80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8405F85-3FA0-431B-BB12-4DFE0780A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434A440-738E-4882-BBE1-258227B01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7A634DE-87C5-4ACA-A4F3-CD5A565A4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A1541D7-9F56-455B-9897-2C7780DBC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DFF03BB-F5BD-470B-8ABA-7F700455A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918EA-CB46-49CD-A037-6BBD23686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1683876-02C5-4ED9-B64B-615489A59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497A233-8BA4-4C1F-A1D7-582B610D1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1AEE354-AD27-4B68-8176-5963982DD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CD42992-1545-4F95-9C8E-52B2CB45E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7DFE546-4B37-42B0-BAD2-EC1E822D9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5C2D79F-0580-4EA5-8B1F-25257D32A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F067789-5883-43BF-A308-5601F2F42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2BF4D37-3927-4B0B-A606-DF1BC601D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4037F47-535A-4E9C-90DD-E6488592E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727A1BB-0C3B-4E47-9472-86B24CF93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54DD7-F218-402B-936C-C09466405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F4392D5-A5B1-4FBA-B9DF-F771AE397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0B45621-53CC-4573-9341-9A6A8230C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4565873-CC7E-4D48-8D36-F8A3A5C66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C2901A8-C243-411D-BC0E-7F9665E44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797DF17-D8D0-4793-A256-86942113E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96BF327-2EE1-4A1D-9F8C-29ED14C73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FBE913B-ACA0-491E-8B4B-D37139944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457EB20-0FDF-45B3-B644-915B36C80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719D291-20A8-4A44-8479-9BFB66E5E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A046486-E362-41DB-9110-9F9481FE5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429F3-A9F7-4511-BE10-BF708BFA2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9273A-7AA2-4AA6-9326-939B10F3A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C162783-A913-4496-ACE3-93588506C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E178BE6-2322-4DE9-9DFC-3A255AB3B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10A1025-36B8-4660-83AC-357A2A0E8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87C965C-C34E-473C-81F7-0F251A607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34F0D15-1324-4D26-9C94-BEF3F7E01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FC27943-2C3E-4674-847F-01298F106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24C10EB-D57B-48E1-B245-AF50A1C18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C3C15CF-F75D-4733-8246-A8BC7D38B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B86A0F8-50B0-4CD9-AD5E-E8F6C35F9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B5160B8-D8F3-4DB0-8510-0701ECAB4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D45AD-E245-4AC1-AF1A-BFAE1A72B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2D6706D-E29A-4613-A390-42F787C24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AF67689-3AF4-4E53-87FF-D1C0E8D2D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9C29AB4-5B2D-400F-8ED3-F3EADD080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E12311F-69E9-4B4D-B3D3-FF7490DE7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B80EE04-A224-4FD7-A812-3F1429BE6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9D76AB8-310C-49AA-B13A-371604336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75D0198-E05C-413B-A7D0-EF93C44B7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3BC84F0-365B-428D-A2A7-C6ECD4198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55A7667-4D50-4034-92F6-3EB453E32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D64FDA3-3348-4C39-80E6-D854B1768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49CC6-35D4-44DD-853A-3462074C7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D15D895-AF29-4F13-80A0-59072E71A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4CC75EA-F73B-42B9-8796-5A2B3F3A9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B66B0FE-362A-4B16-ACFE-FE9D42E72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91F69EC-A92C-4FA4-A758-B4A3B0BBE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CEBB107-0EEF-491F-A04F-593D67188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F469267-0844-4A03-A5EA-F338F9575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50D33ED-1EA3-48B2-8672-BC36130CF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989A12B-6F29-4CF7-A87B-D31066B48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0C0E51B-B8B9-43E7-B660-A223F9639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124BF27-E723-4F1B-9198-13D3106B9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880C7-C50D-466B-AD4D-9AF0DAFFC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B609F73-9E50-4AF2-8DB3-97A372C0E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8726C0F-366C-4E27-A1D4-E619F33D5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F66DFEC-A041-4D08-B21D-7D9FE9B97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21C04D6-62F8-4D73-9F11-FE7F64A11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8C97C9A-D461-4CD3-817B-CFEECB176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2E77A6A-16EE-4600-BF22-362AE49D5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FFA9D16-CC13-40B3-8029-014EC9558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1DAE54C-813B-4CC3-A0FF-CF9F163EE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20B572B-D303-4C4A-B961-2112B0B56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687DBAF-1366-47A6-9DF3-6CAA8E9E6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0096F-B7E5-4B75-8C88-3A9599F0E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06D017A-DEA1-4242-9938-56DE3A100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7398183-5384-40AE-8B36-3AD8A9A95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DA0A84D-7388-4544-984C-CB9776378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EA027EC-A8C6-4D90-9826-99319DA45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1FA06F8-51DA-4C25-9EA2-C1754790D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420EFFD-A2F9-4712-9085-448428D0D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598FC8C-216E-45D9-9B9F-5C511E667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BBE8435-32AC-47BD-98C0-AD53DE386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9AED128-65EC-4AA1-98E4-E73C8494F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A775BDB-1EAF-4CCD-9579-FBFD9CAD5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6B2224-355A-46B5-A197-E2D88911C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26F848E-0316-49F6-AC7C-F52CA75CF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403CE15-900C-402F-AE4E-5210555A5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63DA4B6-1EDE-4BC5-95A3-18108E700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3C9BD4-58B3-447D-ADF6-1B8213A7C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A86156-42D2-42FB-AF57-688AB1421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047C8B-0686-43CF-93C6-1F052BBA6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02C31B-87FB-463E-8BD2-61C557A46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3E259-7D2B-48CF-B883-14ACADBCA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3E04D9-9244-4B15-BB7F-4A30D19A4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CF0337-6C98-4B56-9E5D-1DFFB9EC7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F476F2-490D-47BD-86DA-2B379E64C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CE224F-B685-4500-8848-AAE0E5A65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530383-D3FB-421D-8CDD-0F70FBDF3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B4AA5B-E7D5-43BF-93E0-9DD0A90AF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EB27C2-F6E7-4F67-BF68-B2D5F6E8D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35DAEC-123C-4C91-9B66-6510390A4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A80792-DA59-4098-8A10-D08C5B5C3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3C262E-83DE-4AF6-A26E-06A8EE8E2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372D1-FFC4-45F9-A1C0-45BDBDB32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490DE5-73EE-4065-A71B-AA061CF2C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6FB8FC-AD45-4589-AAA3-8820449FB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E5E411-5B31-4EE8-957D-F1F423CB3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7A83C6-2F7F-425C-928B-36E4ED932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B07DA6-8291-4343-83C0-CB8635EBC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EA0F21-A16B-4A9B-A9BE-A9067F200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D25A48-75AF-47DE-A2D8-74D3F52D1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AC2C9E-02D5-4176-B9D0-4B09FF537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3602D4-EE0D-4F09-82DF-382548245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3AD5DC-5927-44E7-89A7-174E8F14A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F12E9-2858-434C-B7C5-CA49C88ED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6BAC31-BCCD-45B0-8F73-298971105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A139B1-88E0-4130-AAC4-02E999441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238EF7-5E03-4ED3-A67B-5F35823A5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A93CF1-96C0-4BB4-A220-F3316E7C2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6FC508-C343-4E9A-BC40-31170F7BE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28D628-82AE-4B8E-A4D4-1AA63C420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FB6291-7760-4CD7-A283-F0269DF7C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F16CD1-26CD-443B-9382-1F6FB9EC0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11C466-27B3-4344-A065-7BED03370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1867D0-84E4-4AF4-8F11-DBAE4474C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8B430-E7CC-4D3F-97F6-EC5947DBC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8533CD-8044-42A1-AB52-B82911A21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6B4525-9186-4481-8C38-84C367807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AEF215-5DB0-47DA-B1C2-ABE0DE048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EBCD41-F29B-4D68-AE4B-739146587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0515CF-A7C9-4B7E-858E-F8FEF2B36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CE7942-F259-42D4-AA59-D9274AE36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C1B918-91B8-4DD7-BAF5-FD622D480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96BBC3-5741-4420-AB0D-57B812C64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17292B-9FB0-48B5-A3B0-C21A9459D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E0AEAD-307C-48DD-8EAC-885E5DC6F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AEFB8-9270-47F0-82C4-E7725B005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1DA568-269C-4B6E-9E73-E49EC56D8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FA2BA0-0F07-4A93-8ECF-F69A6441E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6F3C17-D088-4195-80A6-711344852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B6D5EF-DBB9-48C1-8797-CA0991CAE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2891CF-ED21-4E84-83DE-DBFD3BABB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6CB982-64FB-4126-82EB-2EB7B7129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F28FAC-BFA4-46EB-9682-34ECD6E3B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FD9790-1392-46D4-8942-C9268970C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6E573E-830C-48E6-A6E8-C1A2455CA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593910-8C40-4D68-BB34-8E2287B9E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764AC-4BC0-45E1-B364-5422552D4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E5F880-2D99-4914-8CAA-A60DF2B7B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2746D7-4C1F-43AD-AAAE-9BC3D87F8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B46406-1302-4104-BE67-0C1EE4F4E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31C587-ED8E-405E-856B-3531916EA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7EDDB4-0E8E-4D16-B8E8-2382D5407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26D42B-3F91-4AB8-9176-C629AC9CB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7257E8-CD57-4B14-B2D7-A43268AA5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2B142B-1804-437B-AF9F-FF3E84E00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ED559D-B8E3-42E5-A6B6-0FCB4AF06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9BA987-263F-4F9B-BC31-37E5FFFC3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4FA71-1B35-4886-8BFF-612B921BA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309C28-23CF-4629-BC49-2EEDD93B9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97D52C-6525-44BA-BB72-BCBEAC389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7D7E7E-A894-462C-91FF-ED29751B2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6CB173-B7F2-466A-BF6D-56CB1318A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395445-6900-4D8F-951B-7DBC27C08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DFDCEB-26DF-4576-9A87-5C9B1A8A2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F8D1A6-25A9-4F55-A3F8-7E204E3E5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F97666-7DBE-4413-A2C6-FEB4F1165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732560-385B-4325-971E-F087D9D66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B60618-BDC6-49A9-82C7-6F734E62E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7BE13-119F-4858-98AA-B0A7C90B20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E9B74-DF32-4F07-BE2A-F9D997D5CF4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188E4-5992-4A46-B784-FEEA398ED8A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45BC5-8B34-4E9D-B790-4D5E706E61B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69F04-AFF2-432F-84E9-2A1F724786C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4B2C7-577F-4763-86BB-FA0E2C73356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6900E-7827-4449-9BA2-BA82607D98E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DB39C-DC3E-4F52-B5C8-6732FAE6223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01AA5-7977-4CDE-8DC5-6BCAF6B8970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374EE-EC5C-464F-A852-698D1C6E2EA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2B28E-CA7F-4256-914F-4C2C62E982D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3A81C-45E8-4B2D-B806-7AF4E251BBB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A193C-6825-4CD3-8FFB-63537A6B6CC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84FF7-F72B-4014-8C5B-03922FB1F8D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AFB9B-95C3-4897-AE1D-3DB6D743F01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32932-9568-41D6-ACAF-7B2D49BD0DC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13EB4-632C-46DB-A71D-6401629C9EB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BEC31-D6F6-40BE-B827-C49E0DDA419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847B6-FFA8-4921-AFF2-9ACC7D25064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840ED-C582-47FD-A8D0-92C50734349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97B5D-820E-4DFE-ADE4-15E1E326365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C31AE-004B-4561-9F35-F06A04FAEA7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095EC-F884-46FD-ABC9-55B2588D1F3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93217-DFA0-4789-BAD9-FF48E410429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FFF27-26CA-49A3-993B-DEFECBBF69D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631F1-0D15-48C8-9282-C1149CABEA6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A657D-BD50-4075-B697-09081EAAF8E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CC82A-D1E7-42D6-B6AE-FF71F6AA8A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0A474-4468-4F31-A474-5B4B495A7CA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6EBE1-8E11-4473-B6B9-90F114309B2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A8B77-2F53-477D-86AC-1672D188FFF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04ED6-1DC1-4EB8-9DDE-3CBBFC4DCD0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D4467-1C1C-48AA-86FD-991DB2400A8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14D46-D3EF-414F-A563-4C7F0F9C07D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70A7D-E6DB-497F-8A1D-9A1EFEE158E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CCA3C-996D-47A1-B2A8-8BA30690392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397D7-A7EC-43DB-BD26-325F5A6D617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E4895-FE87-4E9E-AAF1-239458D9B6C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D13FC-672A-46F5-8CD2-6F0C72A8C7B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DFA7B-0F9F-45C2-9F86-2ECF06FD320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2" name="Picture 1" descr=""/>
          <p:cNvPicPr/>
          <p:nvPr/>
        </p:nvPicPr>
        <p:blipFill>
          <a:blip r:embed="rId1"/>
          <a:stretch/>
        </p:blipFill>
        <p:spPr>
          <a:xfrm>
            <a:off x="2523960" y="3057480"/>
            <a:ext cx="40960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7" name="Picture 1" descr=""/>
          <p:cNvPicPr/>
          <p:nvPr/>
        </p:nvPicPr>
        <p:blipFill>
          <a:blip r:embed="rId1"/>
          <a:stretch/>
        </p:blipFill>
        <p:spPr>
          <a:xfrm>
            <a:off x="538200" y="1700280"/>
            <a:ext cx="8067600" cy="3457440"/>
          </a:xfrm>
          <a:prstGeom prst="rect">
            <a:avLst/>
          </a:prstGeom>
          <a:ln w="0">
            <a:noFill/>
          </a:ln>
        </p:spPr>
      </p:pic>
      <p:sp>
        <p:nvSpPr>
          <p:cNvPr id="1058" name="矩形 2"/>
          <p:cNvSpPr/>
          <p:nvPr/>
        </p:nvSpPr>
        <p:spPr>
          <a:xfrm>
            <a:off x="3929040" y="2643120"/>
            <a:ext cx="1143000" cy="3222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矩形 3"/>
          <p:cNvSpPr/>
          <p:nvPr/>
        </p:nvSpPr>
        <p:spPr>
          <a:xfrm>
            <a:off x="5586480" y="2679840"/>
            <a:ext cx="1214280" cy="3236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矩形 4"/>
          <p:cNvSpPr/>
          <p:nvPr/>
        </p:nvSpPr>
        <p:spPr>
          <a:xfrm>
            <a:off x="2214720" y="4071960"/>
            <a:ext cx="1143000" cy="3222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矩形 5"/>
          <p:cNvSpPr/>
          <p:nvPr/>
        </p:nvSpPr>
        <p:spPr>
          <a:xfrm>
            <a:off x="4700520" y="4071960"/>
            <a:ext cx="785880" cy="3636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矩形 6"/>
          <p:cNvSpPr/>
          <p:nvPr/>
        </p:nvSpPr>
        <p:spPr>
          <a:xfrm>
            <a:off x="6072120" y="4071960"/>
            <a:ext cx="1071720" cy="3222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矩形 7"/>
          <p:cNvSpPr/>
          <p:nvPr/>
        </p:nvSpPr>
        <p:spPr>
          <a:xfrm>
            <a:off x="6929280" y="1357200"/>
            <a:ext cx="1643400" cy="3222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8" dur="10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10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8" dur="10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3" dur="10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8" dur="10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3" dur="10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3" name="Picture 2" descr=""/>
          <p:cNvPicPr/>
          <p:nvPr/>
        </p:nvPicPr>
        <p:blipFill>
          <a:blip r:embed="rId1"/>
          <a:stretch/>
        </p:blipFill>
        <p:spPr>
          <a:xfrm>
            <a:off x="642960" y="1000080"/>
            <a:ext cx="8058240" cy="5648400"/>
          </a:xfrm>
          <a:prstGeom prst="rect">
            <a:avLst/>
          </a:prstGeom>
          <a:ln w="0">
            <a:noFill/>
          </a:ln>
        </p:spPr>
      </p:pic>
      <p:pic>
        <p:nvPicPr>
          <p:cNvPr id="1024" name="Picture 3" descr=""/>
          <p:cNvPicPr/>
          <p:nvPr/>
        </p:nvPicPr>
        <p:blipFill>
          <a:blip r:embed="rId2"/>
          <a:stretch/>
        </p:blipFill>
        <p:spPr>
          <a:xfrm>
            <a:off x="2571840" y="500040"/>
            <a:ext cx="4172040" cy="542880"/>
          </a:xfrm>
          <a:prstGeom prst="rect">
            <a:avLst/>
          </a:prstGeom>
          <a:ln w="0">
            <a:noFill/>
          </a:ln>
        </p:spPr>
      </p:pic>
      <p:sp>
        <p:nvSpPr>
          <p:cNvPr id="1025" name="矩形 3"/>
          <p:cNvSpPr/>
          <p:nvPr/>
        </p:nvSpPr>
        <p:spPr>
          <a:xfrm>
            <a:off x="2857680" y="2500200"/>
            <a:ext cx="1357200" cy="3222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矩形 4"/>
          <p:cNvSpPr/>
          <p:nvPr/>
        </p:nvSpPr>
        <p:spPr>
          <a:xfrm>
            <a:off x="3225960" y="3414600"/>
            <a:ext cx="3571560" cy="3682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矩形 5"/>
          <p:cNvSpPr/>
          <p:nvPr/>
        </p:nvSpPr>
        <p:spPr>
          <a:xfrm>
            <a:off x="4937040" y="3929040"/>
            <a:ext cx="1898640" cy="3222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矩形 6"/>
          <p:cNvSpPr/>
          <p:nvPr/>
        </p:nvSpPr>
        <p:spPr>
          <a:xfrm>
            <a:off x="6951600" y="4843440"/>
            <a:ext cx="1478160" cy="3222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矩形 7"/>
          <p:cNvSpPr/>
          <p:nvPr/>
        </p:nvSpPr>
        <p:spPr>
          <a:xfrm>
            <a:off x="4929120" y="5786280"/>
            <a:ext cx="3429000" cy="3398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10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10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0" name="Picture 1" descr=""/>
          <p:cNvPicPr/>
          <p:nvPr/>
        </p:nvPicPr>
        <p:blipFill>
          <a:blip r:embed="rId1"/>
          <a:stretch/>
        </p:blipFill>
        <p:spPr>
          <a:xfrm>
            <a:off x="500040" y="714240"/>
            <a:ext cx="818208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1" name="Picture 1" descr=""/>
          <p:cNvPicPr/>
          <p:nvPr/>
        </p:nvPicPr>
        <p:blipFill>
          <a:blip r:embed="rId1"/>
          <a:stretch/>
        </p:blipFill>
        <p:spPr>
          <a:xfrm>
            <a:off x="428760" y="857160"/>
            <a:ext cx="8315280" cy="56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2" name="Picture 1" descr=""/>
          <p:cNvPicPr/>
          <p:nvPr/>
        </p:nvPicPr>
        <p:blipFill>
          <a:blip r:embed="rId1"/>
          <a:stretch/>
        </p:blipFill>
        <p:spPr>
          <a:xfrm>
            <a:off x="500040" y="714240"/>
            <a:ext cx="8210520" cy="4314960"/>
          </a:xfrm>
          <a:prstGeom prst="rect">
            <a:avLst/>
          </a:prstGeom>
          <a:ln w="0">
            <a:noFill/>
          </a:ln>
        </p:spPr>
      </p:pic>
      <p:pic>
        <p:nvPicPr>
          <p:cNvPr id="1033" name="Picture 2" descr=""/>
          <p:cNvPicPr/>
          <p:nvPr/>
        </p:nvPicPr>
        <p:blipFill>
          <a:blip r:embed="rId2"/>
          <a:stretch/>
        </p:blipFill>
        <p:spPr>
          <a:xfrm>
            <a:off x="928800" y="5143680"/>
            <a:ext cx="6010200" cy="1352520"/>
          </a:xfrm>
          <a:prstGeom prst="rect">
            <a:avLst/>
          </a:prstGeom>
          <a:ln w="0">
            <a:noFill/>
          </a:ln>
        </p:spPr>
      </p:pic>
      <p:sp>
        <p:nvSpPr>
          <p:cNvPr id="1034" name="矩形 3"/>
          <p:cNvSpPr/>
          <p:nvPr/>
        </p:nvSpPr>
        <p:spPr>
          <a:xfrm>
            <a:off x="1000080" y="2214720"/>
            <a:ext cx="428760" cy="3222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矩形 4"/>
          <p:cNvSpPr/>
          <p:nvPr/>
        </p:nvSpPr>
        <p:spPr>
          <a:xfrm>
            <a:off x="928800" y="4143240"/>
            <a:ext cx="428400" cy="3225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10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10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6" name="Picture 1" descr=""/>
          <p:cNvPicPr/>
          <p:nvPr/>
        </p:nvPicPr>
        <p:blipFill>
          <a:blip r:embed="rId1"/>
          <a:stretch/>
        </p:blipFill>
        <p:spPr>
          <a:xfrm>
            <a:off x="571680" y="1071720"/>
            <a:ext cx="8200800" cy="5153040"/>
          </a:xfrm>
          <a:prstGeom prst="rect">
            <a:avLst/>
          </a:prstGeom>
          <a:ln w="0">
            <a:noFill/>
          </a:ln>
        </p:spPr>
      </p:pic>
      <p:sp>
        <p:nvSpPr>
          <p:cNvPr id="1037" name="矩形 2"/>
          <p:cNvSpPr/>
          <p:nvPr/>
        </p:nvSpPr>
        <p:spPr>
          <a:xfrm>
            <a:off x="1000080" y="1214280"/>
            <a:ext cx="428760" cy="3225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矩形 3"/>
          <p:cNvSpPr/>
          <p:nvPr/>
        </p:nvSpPr>
        <p:spPr>
          <a:xfrm>
            <a:off x="1000080" y="4000680"/>
            <a:ext cx="428760" cy="3222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5" dur="10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0" dur="10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9" name="Picture 1" descr=""/>
          <p:cNvPicPr/>
          <p:nvPr/>
        </p:nvPicPr>
        <p:blipFill>
          <a:blip r:embed="rId1"/>
          <a:stretch/>
        </p:blipFill>
        <p:spPr>
          <a:xfrm>
            <a:off x="523800" y="1995480"/>
            <a:ext cx="8096400" cy="2867040"/>
          </a:xfrm>
          <a:prstGeom prst="rect">
            <a:avLst/>
          </a:prstGeom>
          <a:ln w="0">
            <a:noFill/>
          </a:ln>
        </p:spPr>
      </p:pic>
      <p:sp>
        <p:nvSpPr>
          <p:cNvPr id="1040" name="矩形 2"/>
          <p:cNvSpPr/>
          <p:nvPr/>
        </p:nvSpPr>
        <p:spPr>
          <a:xfrm>
            <a:off x="928800" y="2143080"/>
            <a:ext cx="428400" cy="3222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7" dur="10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1" name="Picture 1" descr=""/>
          <p:cNvPicPr/>
          <p:nvPr/>
        </p:nvPicPr>
        <p:blipFill>
          <a:blip r:embed="rId1"/>
          <a:stretch/>
        </p:blipFill>
        <p:spPr>
          <a:xfrm>
            <a:off x="480960" y="861840"/>
            <a:ext cx="8182080" cy="5134320"/>
          </a:xfrm>
          <a:prstGeom prst="rect">
            <a:avLst/>
          </a:prstGeom>
          <a:ln w="0">
            <a:noFill/>
          </a:ln>
        </p:spPr>
      </p:pic>
      <p:sp>
        <p:nvSpPr>
          <p:cNvPr id="1042" name="矩形 2"/>
          <p:cNvSpPr/>
          <p:nvPr/>
        </p:nvSpPr>
        <p:spPr>
          <a:xfrm>
            <a:off x="6929280" y="1357200"/>
            <a:ext cx="1643400" cy="3222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矩形 3"/>
          <p:cNvSpPr/>
          <p:nvPr/>
        </p:nvSpPr>
        <p:spPr>
          <a:xfrm>
            <a:off x="974880" y="1832040"/>
            <a:ext cx="1643040" cy="3286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矩形 4"/>
          <p:cNvSpPr/>
          <p:nvPr/>
        </p:nvSpPr>
        <p:spPr>
          <a:xfrm>
            <a:off x="3286080" y="2286000"/>
            <a:ext cx="1928880" cy="3222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矩形 5"/>
          <p:cNvSpPr/>
          <p:nvPr/>
        </p:nvSpPr>
        <p:spPr>
          <a:xfrm>
            <a:off x="4500720" y="3214800"/>
            <a:ext cx="2071440" cy="3222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矩形 6"/>
          <p:cNvSpPr/>
          <p:nvPr/>
        </p:nvSpPr>
        <p:spPr>
          <a:xfrm>
            <a:off x="3714840" y="4168800"/>
            <a:ext cx="1857240" cy="3240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矩形 7"/>
          <p:cNvSpPr/>
          <p:nvPr/>
        </p:nvSpPr>
        <p:spPr>
          <a:xfrm>
            <a:off x="2071800" y="5143680"/>
            <a:ext cx="1928880" cy="3222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4" dur="10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9" dur="10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4" dur="10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9" dur="10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4" dur="10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9" dur="10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8" name="Picture 1" descr=""/>
          <p:cNvPicPr/>
          <p:nvPr/>
        </p:nvPicPr>
        <p:blipFill>
          <a:blip r:embed="rId1"/>
          <a:stretch/>
        </p:blipFill>
        <p:spPr>
          <a:xfrm>
            <a:off x="485640" y="1290600"/>
            <a:ext cx="8172720" cy="4276800"/>
          </a:xfrm>
          <a:prstGeom prst="rect">
            <a:avLst/>
          </a:prstGeom>
          <a:ln w="0">
            <a:noFill/>
          </a:ln>
        </p:spPr>
      </p:pic>
      <p:sp>
        <p:nvSpPr>
          <p:cNvPr id="1049" name="矩形 2"/>
          <p:cNvSpPr/>
          <p:nvPr/>
        </p:nvSpPr>
        <p:spPr>
          <a:xfrm>
            <a:off x="2857680" y="2286000"/>
            <a:ext cx="928440" cy="3222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矩形 3"/>
          <p:cNvSpPr/>
          <p:nvPr/>
        </p:nvSpPr>
        <p:spPr>
          <a:xfrm>
            <a:off x="4143240" y="2286000"/>
            <a:ext cx="1071720" cy="3222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矩形 4"/>
          <p:cNvSpPr/>
          <p:nvPr/>
        </p:nvSpPr>
        <p:spPr>
          <a:xfrm>
            <a:off x="5694480" y="2336760"/>
            <a:ext cx="1643040" cy="3240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矩形 5"/>
          <p:cNvSpPr/>
          <p:nvPr/>
        </p:nvSpPr>
        <p:spPr>
          <a:xfrm>
            <a:off x="2286000" y="3714840"/>
            <a:ext cx="928800" cy="3222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矩形 6"/>
          <p:cNvSpPr/>
          <p:nvPr/>
        </p:nvSpPr>
        <p:spPr>
          <a:xfrm>
            <a:off x="3643200" y="3714840"/>
            <a:ext cx="1500480" cy="3222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矩形 7"/>
          <p:cNvSpPr/>
          <p:nvPr/>
        </p:nvSpPr>
        <p:spPr>
          <a:xfrm>
            <a:off x="4178160" y="4665600"/>
            <a:ext cx="1071720" cy="3240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矩形 8"/>
          <p:cNvSpPr/>
          <p:nvPr/>
        </p:nvSpPr>
        <p:spPr>
          <a:xfrm>
            <a:off x="5715000" y="4668840"/>
            <a:ext cx="1428840" cy="3240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矩形 9"/>
          <p:cNvSpPr/>
          <p:nvPr/>
        </p:nvSpPr>
        <p:spPr>
          <a:xfrm>
            <a:off x="7500960" y="4668840"/>
            <a:ext cx="1000080" cy="3240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6" dur="10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1" dur="10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6" dur="10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1" dur="10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6" dur="10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1" dur="10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6" dur="10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1" dur="10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/>
  <dc:description/>
  <dc:language>en-US</dc:language>
  <cp:lastModifiedBy>加冕成王</cp:lastModifiedBy>
  <dcterms:modified xsi:type="dcterms:W3CDTF">2020-07-17T09:00:30Z</dcterms:modified>
  <cp:revision>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828</vt:lpwstr>
  </property>
</Properties>
</file>